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FBF-4217-4D4D-BE59-1F1F1995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889-154A-4629-A979-E41D974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7FA-B156-4D0D-BA18-4C77CC89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03C-B58F-491B-B7F0-7F8A2335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7A4-F7D0-4198-B80D-32101B6A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30E-EF31-4ECE-8A47-0B7CB69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237-6AFB-4DCF-80F6-3687E0A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2F8-A302-4C43-804F-8FC4DBA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3E9-4265-40A1-8508-A0C821BC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FE2-4AB7-4700-94D6-5DB3CF5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C87-6141-4389-BCEB-6A83B5E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513-56E4-4826-9BC9-C28D420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5A8E-0572-4996-AA26-574757AA015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54:18Z</dcterms:created>
  <dc:creator>Grupo Editorial</dc:creator>
  <dc:description/>
  <dc:language>en-US</dc:language>
  <cp:lastModifiedBy>TORRES</cp:lastModifiedBy>
  <dcterms:modified xsi:type="dcterms:W3CDTF">2010-12-19T08:12:35Z</dcterms:modified>
  <cp:revision>2</cp:revision>
  <dc:subject/>
  <dc:title>Sin título de diapositiva</dc:title>
</cp:coreProperties>
</file>